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3E9-CD66-448A-A767-D60C1379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D34-E85E-4197-808C-0745475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7CB-4FDA-45B2-9347-A0FED406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692-44E4-44B3-83FE-6606BE7F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896-5345-4DA9-837D-C5F8B28D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A83A-03C0-46D6-8321-D4EDEEBD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A95-0AC4-4053-ABF1-D8946AD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F882-EF9F-4E89-9CA5-E69A28EC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72A2-C5CE-4582-A99E-BEE1354D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B330-2CE0-4D7F-A010-6ABA8E39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F2F-9F62-49A8-8EB0-01AB845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264-CC4C-4513-BDAF-EA723451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0B72-D25C-4042-9857-6E95B359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FDA9-B031-45D5-9B67-9350DF2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FCA1-BB6D-4DF0-B80F-550F542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DB1F-5C70-44CE-9715-B7A6C9BF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5403-EB2B-47FA-9F1F-0F780047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940-A6F1-454D-98E1-F3E72DB3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78F-0CAD-4B8A-A1ED-70BB30B3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116-FC8D-4BF9-9346-BD3BB32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E60-BB06-4D2F-8E17-BC2B472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66A-8C6A-4930-B0BD-0796DCB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03D-0243-46AF-A5B5-0ED98C9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40D-2FA7-4C2C-B3AA-B5EF1E2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sf.gov/start.htm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www.nsf.gov/start.htm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Click to edit the title text format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DDEE-D1AA-4B36-9591-47AA7DB38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2782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01000" y="5638680"/>
            <a:ext cx="927000" cy="103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Click to edit the title text format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835-F971-4C8E-A544-CF4530AAA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NSF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01000" y="59691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NSF Home P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20160" y="598644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82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d3b69"/>
                </a:solidFill>
                <a:latin typeface="Arial"/>
              </a:rPr>
              <a:t>Systems Engineering Education In the CASA Student Test Bed </a:t>
            </a:r>
            <a:br>
              <a:rPr sz="3600"/>
            </a:br>
            <a:endParaRPr b="1" i="1" lang="en-US" sz="36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ian C. Donov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h.D. Student - UMass Amherst E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SF ERC Annual Meeting - November 18th, 200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71880" y="2971800"/>
          <a:ext cx="4800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971800"/>
                    <a:ext cx="4800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Hydrology Studies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Radar Resolution and Location on Hydrologic Outpu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16405" t="34375" r="1562" b="22917"/>
          <a:stretch/>
        </p:blipFill>
        <p:spPr>
          <a:xfrm>
            <a:off x="4724280" y="4443480"/>
            <a:ext cx="4038840" cy="1576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18749" t="35419" r="3127" b="25004"/>
          <a:stretch/>
        </p:blipFill>
        <p:spPr>
          <a:xfrm>
            <a:off x="304920" y="4343400"/>
            <a:ext cx="4190760" cy="159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1706400"/>
            <a:ext cx="419076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Network Topology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165320"/>
            <a:ext cx="61754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Node Subsystems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Implementation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267440" cy="4267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828800" cy="1714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29200" y="3276720"/>
            <a:ext cx="3886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out of the 16 x 16 patch anten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3467160" cy="2287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944680" y="586728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G RF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d3b69"/>
                </a:solidFill>
                <a:latin typeface="Arial Narrow"/>
              </a:rPr>
              <a:t>Student Impact - Learning By Doing</a:t>
            </a:r>
            <a:endParaRPr b="1" i="1" lang="en-US" sz="4400" spc="-1" strike="noStrike">
              <a:solidFill>
                <a:srgbClr val="3d3b69"/>
              </a:solidFill>
              <a:latin typeface="Arial Narrow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495680" cy="337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1360" y="1600200"/>
            <a:ext cx="35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Ex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mass &amp; UPRM 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RM MA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MASS to CSU Vis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mass Honors 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ss Undergraduate (E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) being advi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ly by CSU and U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emphasi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graduate educa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ss and UPRM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to other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Education Methods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B Network Discuss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-weekly team discus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U Proj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ple STB REU project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nors Capstone Experi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ear long individual research proj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ecial Topic Related Cla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systems explored in detail for fundamental understand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Summary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tudent lead multi-institution tea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xploring high density wireless remote sensing network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ystems education at multiple levels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atch student needs with testbed research opportuniti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Learn as a group while having fu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62600" y="1854360"/>
            <a:ext cx="2897280" cy="289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d3b69"/>
                </a:solidFill>
                <a:latin typeface="Arial Narrow"/>
              </a:rPr>
              <a:t>Motivation for a QPE Test bed?</a:t>
            </a:r>
            <a:endParaRPr b="1" i="1" lang="en-US" sz="44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3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ods over Puerto Rico during May 6-7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840" y="5943600"/>
            <a:ext cx="51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WS http://www.srh.noaa.gov/sju/prelim_report_may62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2057400"/>
            <a:ext cx="44528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spread Flooding, Land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Flood Related Fat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st rainfall occurred in the Western, Southwestern, Southern, and the Western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50 M property da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m Total Precipitation Estimates from Doppler Radar tended to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nderesti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m total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Gage Rainfall up to 66% greater than NEXRAD estimates in som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-2628" t="17675" r="0" b="0"/>
          <a:stretch/>
        </p:blipFill>
        <p:spPr>
          <a:xfrm>
            <a:off x="5224320" y="3733920"/>
            <a:ext cx="2971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38880" y="5334120"/>
            <a:ext cx="1905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d3b69"/>
                </a:solidFill>
                <a:latin typeface="Arial Narrow"/>
              </a:rPr>
              <a:t>Observation Limitations</a:t>
            </a:r>
            <a:endParaRPr b="1" i="1" lang="en-US" sz="4400" spc="-1" strike="noStrike">
              <a:solidFill>
                <a:srgbClr val="3d3b69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247" t="28645" r="29938" b="30352"/>
          <a:stretch/>
        </p:blipFill>
        <p:spPr>
          <a:xfrm>
            <a:off x="414360" y="2952720"/>
            <a:ext cx="4081320" cy="299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7840" y="55292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XRAD Rainfall 1 Hour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96960" y="1189080"/>
            <a:ext cx="547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NEXRAD (TJUA) in P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Cayey to Mayagüez: ~ 100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Elevation: 85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ture Beam Elevation (Above Site): 60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eam Elevation (Above SL):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2520" y="1238400"/>
            <a:ext cx="99828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2209680"/>
            <a:ext cx="198108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14840" y="2895480"/>
            <a:ext cx="4400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d3b69"/>
                </a:solidFill>
                <a:latin typeface="Arial Narrow"/>
              </a:rPr>
              <a:t>Test Bed Goals</a:t>
            </a:r>
            <a:endParaRPr b="1" i="1" lang="en-US" sz="44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tablish a QPE sensing network starting at the western end of the island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ll in NEXRAD coverage gap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rove precipitation estimates for western Puerto Ric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loring the capabilities of short range, and limited node computation Off-the-Grid radar network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ducate CASA students through practical systems engineering and cross discipline collabora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 a DCAS strategy for tropical QP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238880" y="5334120"/>
            <a:ext cx="1905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d3b69"/>
                </a:solidFill>
                <a:latin typeface="Arial"/>
              </a:rPr>
              <a:t>Heterogeneous Radar Network</a:t>
            </a:r>
            <a:endParaRPr b="1" i="1" lang="en-US" sz="40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71360" y="1585800"/>
            <a:ext cx="6153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0 km Magnetr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 -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 “back end”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 system 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undergraduate “educational” ra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114800"/>
            <a:ext cx="632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0 km “Off the Gri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 - band &amp; Ku -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ergy balanc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ruption tolerant network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uct 4 node “proof of concept”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27808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5880" y="4572000"/>
            <a:ext cx="2463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359000"/>
            <a:ext cx="8610480" cy="5338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05120" y="3429000"/>
            <a:ext cx="868320" cy="868320"/>
          </a:xfrm>
          <a:prstGeom prst="ellipse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3094200"/>
            <a:ext cx="868320" cy="868320"/>
          </a:xfrm>
          <a:prstGeom prst="ellipse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743200"/>
            <a:ext cx="868320" cy="868320"/>
          </a:xfrm>
          <a:prstGeom prst="ellipse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941560"/>
            <a:ext cx="868320" cy="868320"/>
          </a:xfrm>
          <a:prstGeom prst="ellipse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095880"/>
            <a:ext cx="533520" cy="533520"/>
          </a:xfrm>
          <a:prstGeom prst="ellipse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6095880"/>
            <a:ext cx="533160" cy="533520"/>
          </a:xfrm>
          <a:prstGeom prst="ellipse">
            <a:avLst/>
          </a:prstGeom>
          <a:solidFill>
            <a:srgbClr val="3366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5120" y="61722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km O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9080" y="61722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km Magne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621504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364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JUA NEX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962520"/>
            <a:ext cx="228600" cy="3045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Network Coverage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Human Systems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9760" y="1600200"/>
            <a:ext cx="636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 schools, 4 times zon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dergraduate, Masters, Ph.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ltiple timeframes (6 weeks, 6 year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 Fields of Study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ical Engine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chanical Engine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ydr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teor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Students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ian Donovan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G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rge Trabal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UPRM, 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ny Hopf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 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atie Hartig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 U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Yuech Lan Quach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 U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gechi Ib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 U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becca Woodbury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Smith, U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an Howarth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 UG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1219320"/>
            <a:ext cx="3505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ian Roberts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M, 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ctor Marrero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ego Aria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dres Garcia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ssenia Merced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RPM, 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Yaritza Mejias Rolon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icardo Rios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1219320"/>
            <a:ext cx="2895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itin Bharadwaj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CSU,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run Banka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CSU, 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ve Klopf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CSU,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ham Mazroi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OU,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nuel Vega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(UPRM,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aime Di Cristina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se Padovani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UPRM, U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Advis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952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Lionel R. Orama (L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Jose Colom Usta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V. Chandrasek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Baxter Vi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952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Rafael Rodriguez S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David J. McLaugh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Mark Pre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f. Jim Ku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d3b69"/>
                </a:solidFill>
                <a:latin typeface="Arial Narrow"/>
              </a:rPr>
              <a:t>Technical (Sub)Systems</a:t>
            </a:r>
            <a:endParaRPr b="1" i="1" lang="en-US" sz="4800" spc="-1" strike="noStrike">
              <a:solidFill>
                <a:srgbClr val="3d3b69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twork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node coordin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ydrologic impa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te lo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blic acceptance / edu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utiliz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vidual Rad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twork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8748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de Sub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F Trans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ation /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tenna / Positi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55:06Z</dcterms:created>
  <dc:creator>Brenda Philips</dc:creator>
  <dc:description/>
  <dc:language>en-US</dc:language>
  <cp:lastModifiedBy>Maryellen Rousseau</cp:lastModifiedBy>
  <dcterms:modified xsi:type="dcterms:W3CDTF">2006-04-25T14:20:12Z</dcterms:modified>
  <cp:revision>89</cp:revision>
  <dc:subject/>
  <dc:title>NSF Presentation</dc:title>
</cp:coreProperties>
</file>